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C3FA6-8169-41A8-B631-EA6349799FD7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EA0D5F-1F18-4431-A27E-1B9B7DE5731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B273F-826D-4F54-9561-021D4F16B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6D7B-AC1A-4B37-8D9B-D2412989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0967-AC55-4633-99E5-603BA7EB1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2BD9-85A8-4F37-B386-DDBD3FE4D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643E-3640-404E-A708-8A671BAB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821E-43C3-4B59-90E7-90882F91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254E-9C35-49AC-AF34-E58ECC0E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5658-9ABA-406D-8C6C-32ACFDB0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4BE1-B904-4A62-AC6F-EE29ACFA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DA68-5076-4EDB-835D-366B1917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182F-ADCC-4D21-9939-4CD7910C3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1BBD-FDC8-4AE6-A0C0-8FE47BF9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F186B6-0150-4DEE-BD39-9083BF1E48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FDBA0-3ABB-40D6-8C5C-B3A9013459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argyle@nationalcapitalregionymca-ywca.ca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yeacmerivale@nationalcapitalregionymca-ywca.ca" TargetMode="External"/><Relationship Id="rId3" Type="http://schemas.openxmlformats.org/officeDocument/2006/relationships/hyperlink" Target="http://www.ymca-ywca.ca/" TargetMode="Externa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OpeningSlide_forEEN.jpg"/>
          <p:cNvPicPr/>
          <p:nvPr/>
        </p:nvPicPr>
        <p:blipFill>
          <a:blip r:embed="rId1"/>
          <a:stretch/>
        </p:blipFill>
        <p:spPr>
          <a:xfrm>
            <a:off x="-4680" y="0"/>
            <a:ext cx="9196200" cy="691056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4476600" y="4689360"/>
            <a:ext cx="454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eorgia"/>
              </a:rPr>
              <a:t>Y Employment Access Cent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Georgia"/>
              </a:rPr>
              <a:t>Last revised October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ource Centre works on a walk-in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or email to register for worksho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n Employment Consultant available for drop-in intakes everyday on a first-come first-served bas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oyment Consultants will refer clients to the most appropriate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sible to set up specific appointments by phone or 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How to Register or Re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352440" y="1676520"/>
            <a:ext cx="6305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Formal Referr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52440" y="1676520"/>
            <a:ext cx="6305400" cy="48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YEAC makes official referrals to the following programs/agenci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SEB-Ontario Self Employment Benefit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JCP-Job Creation Partnerships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SC-Second Career / FeePayer / Long Tenured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he Practice Firms (Experica or Canad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BS-Literacy and Basic Skill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Acclaim Ability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Ontario March of D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useway Work Cent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anadian Hearing Society (Job Developm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52440" y="1676520"/>
            <a:ext cx="630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dividual support from a Job Developer with job search, networking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Information on Health and Safety in the workplace and Workers’ Righ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Help matching job seekers’ skills and interests with job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upport with securing apprentice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Possibility of Apprenticeship scholarsh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Possibility of on-the-job training pla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Help with identifying and resolving workplace barr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/Training Re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52440" y="2108160"/>
            <a:ext cx="6305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Support for long-term attachment or advancement in the labour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Access to mentors and coa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Monitoring of mentor/coach relatio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Development of a support plan to enhance employability and job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Monitoring and follow-up of work pla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4"/>
          <p:cNvSpPr/>
          <p:nvPr/>
        </p:nvSpPr>
        <p:spPr>
          <a:xfrm>
            <a:off x="123840" y="533520"/>
            <a:ext cx="854064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Services for Emplo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52440" y="1676520"/>
            <a:ext cx="6175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ree distribution and advertisement of job post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e-screened candidates for pos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nsitivity and diversity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le wage/training subsidy for new h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atching of appren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ossibility of Apprenticeship Signing Bon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onitoring of placements during/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ime and money sa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pace for hosting of information sessions or inter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icipation in large Career Fai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Location and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352440" y="1814400"/>
            <a:ext cx="6175440" cy="41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Central Ottawa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180 Argyle Avenue, 4th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l: 613-788-5001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argy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ww.ymca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day-Tuesday ~ 8:30 am - 4: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ednesday-Thursday ~ 8:30 am - 7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iday ~ 8:30 am - 4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Location and Ho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352440" y="1814400"/>
            <a:ext cx="6458040" cy="47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eorgia"/>
              </a:rPr>
              <a:t>West Ottawa: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erivale Mall, 2</a:t>
            </a:r>
            <a:r>
              <a:rPr b="0" lang="en-US" sz="2200" spc="-1" strike="noStrike" baseline="30000">
                <a:solidFill>
                  <a:srgbClr val="000000"/>
                </a:solidFill>
                <a:latin typeface="Georgia"/>
              </a:rPr>
              <a:t>nd</a:t>
            </a: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 Fl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el: 613-688-215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2"/>
              </a:rPr>
              <a:t>yeacmerivale@nationalcapitalregion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Georgia"/>
                <a:hlinkClick r:id="rId3"/>
              </a:rPr>
              <a:t>www.ymca-ywca.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Monday-Tuesday ~ 8:30 am – 7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ednesday-Thursday ~ 8:30 am – 4:3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Friday ~ 8:30 am – 4:00 p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*Note: This temporary location will officially open November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eorgi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Other EE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352440" y="2108160"/>
            <a:ext cx="630540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erprise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ntario Self-Employment Benefit Program (S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 Public Sector Youth Internship Program (FPSY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th Gambling Awareness Project (Y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nguage Assessment and Referral Centre (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wcomer Information Centre (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Counselling Centers (YEC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Kanata Employment Resource Centre 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(K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Ontario Self Employment Benefit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352440" y="1790640"/>
            <a:ext cx="6305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nancial assistance provided to eligible participants for a fixed period of time while starting a new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Access to business related seminars and one-on-one support from a business consult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ferral required, possible through the YE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Federal</a:t>
            </a: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 Public Sector Youth Internship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6320" y="1798560"/>
            <a:ext cx="632448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Gain practical work experience through a paid internship and placement with a mentor for youth within the Federal govern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ceive one-on-one support from an Employment Counsellor during the intern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National Capital Region YMCA-YWCA is a charitable, voluntary, community based association dedicated to improving the quality of life for children, youth, adults and families through programs that build spirit, mind and 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e National Capital Region YMCA-YWCA provides opportunities for personal growth and character development by providing unique and contemporary programs for everyone regardless of race, religion, creed, ability or economic circumst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The </a:t>
            </a: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YMCA-YWCA</a:t>
            </a: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 Mis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Kanata Employment Resource Cent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76320" y="1798560"/>
            <a:ext cx="6324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mployment resource centre with information on labour market, apprenticeships, retraining and community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Workshops facilitated include Resume Writing, Job Search and Interview Techniques along with Employer Information S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Language Assessment &amp; Referral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76320" y="1798560"/>
            <a:ext cx="632448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Language Assessments in English or French, based on the Canadian Language Benchmarks (CL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Referrals to language training in English or French, such as LINC/CLIC (Language Instruction for Newcomers to Canada), ELT/CLNA (Enhanced Language Training) and OSLT/FLAP (Occupation Specific Language Train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Depending on eligibility, access to FREE childcare, transportation allowance, full time and part time classes, beginner to advanced levels as well as employment focused language training and progra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Newcomer Information Cen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76320" y="1935000"/>
            <a:ext cx="6324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formation and referral services for newcomers to 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Resource Centre with access to computers, community information, events and announc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ultilingual staff and community settlement specialists on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Various workshops and information sessions facilitated by NIC staff, community partners and leaders, professional associations and employ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Youth Gambling Awareness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76320" y="1798560"/>
            <a:ext cx="6324480" cy="40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evention and education programs to help promote  awareness of possible harm associated with gamb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Community awareness outreach in various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eferral to treatm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eorgia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MPj04395360000[1]"/>
          <p:cNvPicPr/>
          <p:nvPr/>
        </p:nvPicPr>
        <p:blipFill>
          <a:blip r:embed="rId2"/>
          <a:stretch/>
        </p:blipFill>
        <p:spPr>
          <a:xfrm>
            <a:off x="733320" y="2679840"/>
            <a:ext cx="5257800" cy="28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-276120" y="-133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Georgia"/>
              </a:rPr>
              <a:t>Thank You!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352440" y="2108160"/>
            <a:ext cx="63054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6320" y="1798560"/>
            <a:ext cx="63244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8" descr="YSigColour-BilPC"/>
          <p:cNvPicPr/>
          <p:nvPr/>
        </p:nvPicPr>
        <p:blipFill>
          <a:blip r:embed="rId2"/>
          <a:stretch/>
        </p:blipFill>
        <p:spPr>
          <a:xfrm>
            <a:off x="352440" y="2108160"/>
            <a:ext cx="5821200" cy="1511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BW-Tag"/>
          <p:cNvPicPr/>
          <p:nvPr/>
        </p:nvPicPr>
        <p:blipFill>
          <a:blip r:embed="rId3"/>
          <a:stretch/>
        </p:blipFill>
        <p:spPr>
          <a:xfrm>
            <a:off x="1266840" y="4292640"/>
            <a:ext cx="35244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nded in Ottawa in 18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MCA &amp; YWCA amalgamated in 19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rovider of licensed child care since 1890 – largest in Can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In 1942 started Carleton Univers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ounding member of United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rst to introduce residence camping in Easter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Counselling Centres open in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Job Connects opens in 2005 at NCR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CC and JC fuse and become YEAC in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eorgia"/>
              </a:rPr>
              <a:t>YMCA-YWCA His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eorgia"/>
              </a:rPr>
              <a:t>Y Employment Enterprise and Newcomer Services (E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281160" y="1809720"/>
            <a:ext cx="634824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mployment Access Centres (EA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Enterprise Cent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  <a:ea typeface="ＭＳ Ｐゴシック"/>
              </a:rPr>
              <a:t>Ontario Self-Employment Benefit Program (SE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ederal Public Sector Youth Internship Program (FPSY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eorgia"/>
              </a:rPr>
              <a:t>Kanata Employment Resource Centre (KE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Language Assessment and Referral Centre (LAR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ewcomer Information Centre (NI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Youth Gambling Awareness Project (YG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buClr>
                <a:srgbClr val="ba9957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What is the Y Employment Access Centr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52440" y="1979640"/>
            <a:ext cx="617544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YEAC is an employment program that offers </a:t>
            </a:r>
            <a:r>
              <a:rPr b="1" lang="en-US" sz="2400" spc="-1" strike="noStrike">
                <a:solidFill>
                  <a:srgbClr val="000000"/>
                </a:solidFill>
                <a:latin typeface="Georgia"/>
              </a:rPr>
              <a:t>FREE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ervices to job seekers and emplo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EAC is an </a:t>
            </a:r>
            <a:r>
              <a:rPr b="0" i="1" lang="en-US" sz="2400" spc="-1" strike="noStrike">
                <a:solidFill>
                  <a:srgbClr val="000000"/>
                </a:solidFill>
                <a:latin typeface="Georgia"/>
              </a:rPr>
              <a:t>Employment Ontario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program funded by the Ontario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fers a variety of interventions to assist Ontarians with obtaining sustainable employ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Provides various services to employers who are licensed to operate in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eorgia"/>
              </a:rPr>
              <a:t>The Components of Employme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52440" y="2108160"/>
            <a:ext cx="63435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1) Information &amp; Refer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2) Job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3) Job Matching, Placement &amp; Incen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4) Job/Training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Information &amp; Referral (I&amp;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352440" y="2108160"/>
            <a:ext cx="6305400" cy="511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ree public resource centr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ccess to current job posting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omputers with Internet access and résumé softwa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axing, printing, phone and photocopier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Various employment related worksho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Apprenticeship program inform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formation and referral to various community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Resumé critiquing and interview prepara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articipation in large Career Fai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Distribution of job postings by emai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*there is no eligibility criteria for these serv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Search/Employment Consul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352440" y="2108160"/>
            <a:ext cx="6305400" cy="39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Eligibility Criter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Not in full-time school/training (more than 20 hours/wee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Unemployed or working less than 20 hours/w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Eligible to work in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eorgia"/>
              </a:rPr>
              <a:t>Resident of On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PowerPointTemplate_Bi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5"/>
          <p:cNvSpPr/>
          <p:nvPr/>
        </p:nvSpPr>
        <p:spPr>
          <a:xfrm>
            <a:off x="352440" y="1979640"/>
            <a:ext cx="61754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4"/>
          <p:cNvSpPr/>
          <p:nvPr/>
        </p:nvSpPr>
        <p:spPr>
          <a:xfrm>
            <a:off x="76320" y="533520"/>
            <a:ext cx="8978760" cy="1143000"/>
          </a:xfrm>
          <a:prstGeom prst="roundRect">
            <a:avLst>
              <a:gd name="adj" fmla="val 11667"/>
            </a:avLst>
          </a:prstGeom>
          <a:gradFill rotWithShape="0">
            <a:gsLst>
              <a:gs pos="0">
                <a:srgbClr val="ff0000"/>
              </a:gs>
              <a:gs pos="100000">
                <a:srgbClr val="8000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eorgia"/>
              </a:rPr>
              <a:t>Job 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52440" y="1676520"/>
            <a:ext cx="6305400" cy="47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Individualized support and meetings with an Employment Consulta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ssistance and coaching in resumé development, job search and networking strategies, interview preparation, career exploration and mo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larification on employment and training need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Establish short and long term goa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Develop an Employment Service Plan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upport and referral with Second Career and other funded MTCU program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ccess to the Ottawa Job Match Network*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*for those who qualif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14:50:59Z</dcterms:created>
  <dc:creator>Andrew Jordan</dc:creator>
  <dc:description/>
  <dc:language>en-US</dc:language>
  <cp:lastModifiedBy>aholmes</cp:lastModifiedBy>
  <dcterms:modified xsi:type="dcterms:W3CDTF">2011-07-08T18:57:31Z</dcterms:modified>
  <cp:revision>22</cp:revision>
  <dc:subject/>
  <dc:title>Slide 1</dc:title>
</cp:coreProperties>
</file>